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65E9-6EB3-49A0-AC4A-4BA40793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D5FB-A4B9-4C1C-BA50-EE0FBBCF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3314-8E60-4246-8033-7796FA22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1486-C6AF-420D-8ACE-4E0E01966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EFA5-9858-4EB9-9E19-0F9BF970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4B0F-4FA0-4165-A96E-2E726F1C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CC3C-4FFA-4866-BF4D-B6B64D6D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3A5C-C30C-4301-AC00-16AED604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969F-97ED-482B-9441-A0035F67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FFEA-763A-40F4-9E46-EA755B90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6271-C6E2-417C-B243-A7BFCD24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A559-A119-4C41-867C-14370279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B2BF-4C10-44F3-82CB-5CA80BDC8932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7731000" cy="218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3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8242200" cy="1243080"/>
          </a:xfrm>
          <a:prstGeom prst="rect">
            <a:avLst/>
          </a:prstGeom>
          <a:ln w="0">
            <a:noFill/>
          </a:ln>
        </p:spPr>
      </p:pic>
      <p:sp>
        <p:nvSpPr>
          <p:cNvPr id="43" name="pole tekstowe 1"/>
          <p:cNvSpPr/>
          <p:nvPr/>
        </p:nvSpPr>
        <p:spPr>
          <a:xfrm>
            <a:off x="1285920" y="2714760"/>
            <a:ext cx="594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Oferta najmu pomieszczeń biurowy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7" descr=""/>
          <p:cNvPicPr/>
          <p:nvPr/>
        </p:nvPicPr>
        <p:blipFill>
          <a:blip r:embed="rId1"/>
          <a:stretch/>
        </p:blipFill>
        <p:spPr>
          <a:xfrm>
            <a:off x="324000" y="-171360"/>
            <a:ext cx="8242200" cy="907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28760" y="107172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Przedmiotem oferty jest blisko 200 m</a:t>
            </a:r>
            <a:r>
              <a:rPr b="0" lang="pl-PL" sz="12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 powierzchni biurowych zlokalizowanych na stadionie na ul. Łukasiewicza 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Powierzchnia użytkowa pojedynczego pomieszczenia – od 20 m</a:t>
            </a:r>
            <a:r>
              <a:rPr b="0" lang="pl-PL" sz="12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 do 40 m</a:t>
            </a:r>
            <a:r>
              <a:rPr b="0" lang="pl-PL" sz="12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Przeznaczenie administracyjno-biuro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Verdana"/>
              </a:rPr>
              <a:t>Pomieszczenia wyposażone s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cecff"/>
                </a:solidFill>
                <a:latin typeface="Verdana"/>
              </a:rPr>
              <a:t>Ogrzew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cecff"/>
                </a:solidFill>
                <a:latin typeface="Verdana"/>
              </a:rPr>
              <a:t>Instalację elektryczną i telefoniczn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cecff"/>
                </a:solidFill>
                <a:latin typeface="Verdana"/>
              </a:rPr>
              <a:t>Stały dostęp do interne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cecff"/>
                </a:solidFill>
                <a:latin typeface="Verdana"/>
              </a:rPr>
              <a:t>Niezależne wejś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cecff"/>
                </a:solidFill>
                <a:latin typeface="Verdana"/>
              </a:rPr>
              <a:t>W parkingi i punkty gastronomicz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cecff"/>
                </a:solidFill>
                <a:latin typeface="Verdana"/>
              </a:rPr>
              <a:t>Objęte całodobową ochroną oraz systemem monitoring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SzPct val="10300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Istnieje możliwość najmu całości lub części opisanego przedmiotu najm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324000" y="-149400"/>
            <a:ext cx="8242200" cy="908280"/>
          </a:xfrm>
          <a:prstGeom prst="rect">
            <a:avLst/>
          </a:prstGeom>
          <a:ln w="0">
            <a:noFill/>
          </a:ln>
        </p:spPr>
      </p:pic>
      <p:sp>
        <p:nvSpPr>
          <p:cNvPr id="47" name="pole tekstowe 6"/>
          <p:cNvSpPr/>
          <p:nvPr/>
        </p:nvSpPr>
        <p:spPr>
          <a:xfrm>
            <a:off x="285840" y="100008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Zdjęcie wejść frontowych do oferowanych pomieszczeń biurowy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Obraz 4" descr="DSC03574.JPG"/>
          <p:cNvPicPr/>
          <p:nvPr/>
        </p:nvPicPr>
        <p:blipFill>
          <a:blip r:embed="rId2"/>
          <a:stretch/>
        </p:blipFill>
        <p:spPr>
          <a:xfrm>
            <a:off x="1857240" y="1643040"/>
            <a:ext cx="5330880" cy="3997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324000" y="-149400"/>
            <a:ext cx="8242200" cy="908280"/>
          </a:xfrm>
          <a:prstGeom prst="rect">
            <a:avLst/>
          </a:prstGeom>
          <a:ln w="0">
            <a:noFill/>
          </a:ln>
        </p:spPr>
      </p:pic>
      <p:sp>
        <p:nvSpPr>
          <p:cNvPr id="50" name="pole tekstowe 6"/>
          <p:cNvSpPr/>
          <p:nvPr/>
        </p:nvSpPr>
        <p:spPr>
          <a:xfrm>
            <a:off x="285840" y="100008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Zdjęcie wejść frontowych do oferowanych pomieszczeń biurowy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raz 5" descr="DSC03575.JPG"/>
          <p:cNvPicPr/>
          <p:nvPr/>
        </p:nvPicPr>
        <p:blipFill>
          <a:blip r:embed="rId2"/>
          <a:stretch/>
        </p:blipFill>
        <p:spPr>
          <a:xfrm>
            <a:off x="1857240" y="1785960"/>
            <a:ext cx="5045040" cy="3782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8229600" cy="34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Dane osoby kontaktowej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Verdana"/>
              </a:rPr>
              <a:t>Radosław Strusiń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Kierownik ds. administracyjno-majątkow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Tel: 0 607 694 9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Adres e-mail: </a:t>
            </a:r>
            <a:r>
              <a:rPr b="0" i="1" lang="pl-PL" sz="2000" spc="-1" strike="noStrike">
                <a:solidFill>
                  <a:srgbClr val="ffffff"/>
                </a:solidFill>
                <a:latin typeface="Verdana"/>
              </a:rPr>
              <a:t>radoslaw.strusinski@wisla.plock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773100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824220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09:51:22Z</dcterms:created>
  <dc:creator>Anika Miszczyńska</dc:creator>
  <dc:description/>
  <dc:language>en-US</dc:language>
  <cp:lastModifiedBy>user</cp:lastModifiedBy>
  <dcterms:modified xsi:type="dcterms:W3CDTF">2010-10-04T07:55:59Z</dcterms:modified>
  <cp:revision>85</cp:revision>
  <dc:subject/>
  <dc:title>Slajd 1</dc:title>
</cp:coreProperties>
</file>