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E83-A104-48B9-84AE-13E6AB94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BED-3DFB-47D4-AD7B-79BE782E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F56-3D53-4CAC-9CC7-F579AE69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9F1-BFF6-4CFC-BDC4-2D9EB4E9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40D-7665-46BD-9193-06893BD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AFF-6693-46C7-AB1D-9198837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796-5A96-4711-AE99-C2153531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ADC-4C2A-41C0-8ECD-4B32DE8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758-D8A3-4674-8774-0EAA105C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C28-C393-4CA5-B15D-31DC7A4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3FD-3F34-41EE-A030-750C3D3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4B9-C936-4571-9C28-717E3A93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F6A0-33D4-4415-8455-38C745806F3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731000" cy="21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242200" cy="1243080"/>
          </a:xfrm>
          <a:prstGeom prst="rect">
            <a:avLst/>
          </a:prstGeom>
          <a:ln w="0">
            <a:noFill/>
          </a:ln>
        </p:spPr>
      </p:pic>
      <p:sp>
        <p:nvSpPr>
          <p:cNvPr id="43" name="pole tekstowe 1"/>
          <p:cNvSpPr/>
          <p:nvPr/>
        </p:nvSpPr>
        <p:spPr>
          <a:xfrm>
            <a:off x="1285920" y="2714760"/>
            <a:ext cx="59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ferta najmu pomieszczeń biurow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7" descr=""/>
          <p:cNvPicPr/>
          <p:nvPr/>
        </p:nvPicPr>
        <p:blipFill>
          <a:blip r:embed="rId1"/>
          <a:stretch/>
        </p:blipFill>
        <p:spPr>
          <a:xfrm>
            <a:off x="324000" y="-171360"/>
            <a:ext cx="8242200" cy="90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rzedmiotem oferty jest blisko 20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powierzchni biurowych zlokalizowanych na stadionie na ul. Łukasiewicza 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owierzchnia użytkowa pojedynczego pomieszczenia – od 2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do 4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rzeznaczenie administracyjno-biur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Verdana"/>
              </a:rPr>
              <a:t>Pomieszczenia wyposażone s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Ogrze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Instalację elektryczną i telefoniczn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Stały dostęp do interne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Niezależne wejś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W parkingi i punkty gastronomicz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Objęte całodobową ochroną oraz systemem monitorin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Istnieje możliwość najmu całości lub części opisanego przedmiotu naj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4000" y="-149400"/>
            <a:ext cx="8242200" cy="908280"/>
          </a:xfrm>
          <a:prstGeom prst="rect">
            <a:avLst/>
          </a:prstGeom>
          <a:ln w="0">
            <a:noFill/>
          </a:ln>
        </p:spPr>
      </p:pic>
      <p:sp>
        <p:nvSpPr>
          <p:cNvPr id="47" name="pole tekstowe 6"/>
          <p:cNvSpPr/>
          <p:nvPr/>
        </p:nvSpPr>
        <p:spPr>
          <a:xfrm>
            <a:off x="285840" y="100008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Zdjęcie wejść frontowych do oferowanych pomieszczeń biur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4" descr="DSC03574.JPG"/>
          <p:cNvPicPr/>
          <p:nvPr/>
        </p:nvPicPr>
        <p:blipFill>
          <a:blip r:embed="rId2"/>
          <a:stretch/>
        </p:blipFill>
        <p:spPr>
          <a:xfrm>
            <a:off x="1857240" y="1643040"/>
            <a:ext cx="5330880" cy="399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-149400"/>
            <a:ext cx="8242200" cy="908280"/>
          </a:xfrm>
          <a:prstGeom prst="rect">
            <a:avLst/>
          </a:prstGeom>
          <a:ln w="0">
            <a:noFill/>
          </a:ln>
        </p:spPr>
      </p:pic>
      <p:sp>
        <p:nvSpPr>
          <p:cNvPr id="50" name="pole tekstowe 6"/>
          <p:cNvSpPr/>
          <p:nvPr/>
        </p:nvSpPr>
        <p:spPr>
          <a:xfrm>
            <a:off x="285840" y="100008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Zdjęcie wejść frontowych do oferowanych pomieszczeń biur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5" descr="DSC03575.JPG"/>
          <p:cNvPicPr/>
          <p:nvPr/>
        </p:nvPicPr>
        <p:blipFill>
          <a:blip r:embed="rId2"/>
          <a:stretch/>
        </p:blipFill>
        <p:spPr>
          <a:xfrm>
            <a:off x="1857240" y="1785960"/>
            <a:ext cx="5045040" cy="37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Dane osoby kontaktow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Verdana"/>
              </a:rPr>
              <a:t>Radosław Strusiń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Kierownik ds. administracyjno-majątk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Tel: 0 607 694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Adres e-mail: </a:t>
            </a:r>
            <a:r>
              <a:rPr b="0" i="1" lang="pl-PL" sz="2000" spc="-1" strike="noStrike">
                <a:solidFill>
                  <a:srgbClr val="ffffff"/>
                </a:solidFill>
                <a:latin typeface="Verdana"/>
              </a:rPr>
              <a:t>radoslaw.strusinski@wisla.plock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3100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242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9:51:22Z</dcterms:created>
  <dc:creator>Anika Miszczyńska</dc:creator>
  <dc:description/>
  <dc:language>en-US</dc:language>
  <cp:lastModifiedBy>user</cp:lastModifiedBy>
  <dcterms:modified xsi:type="dcterms:W3CDTF">2010-10-04T07:55:59Z</dcterms:modified>
  <cp:revision>85</cp:revision>
  <dc:subject/>
  <dc:title>Slajd 1</dc:title>
</cp:coreProperties>
</file>