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15B-4BFF-4367-AAA1-E1D093AF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E5E-2145-4781-A711-80571900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DD6-92AE-4D15-B78D-C55C8186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F7C-2BF4-4B78-AEE1-3D82BEAF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CA8-C6F8-4C88-84B8-0A810555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CE1-44F2-4B6F-9619-9B210902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3CE-EC3F-436D-A2E6-C796FAC9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54E-903C-4AE8-AD88-750103E6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48B-B6D0-4B7A-959F-F7AD66D1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92B-EF66-4141-ACB3-9A9C4C6B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987-E388-44E9-83F0-6D971059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24E-BBF8-4602-A4F4-C33F138C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1D49-70D0-4F8A-BEE3-6F3AEB38645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7731000" cy="218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242200" cy="1243080"/>
          </a:xfrm>
          <a:prstGeom prst="rect">
            <a:avLst/>
          </a:prstGeom>
          <a:ln w="0">
            <a:noFill/>
          </a:ln>
        </p:spPr>
      </p:pic>
      <p:sp>
        <p:nvSpPr>
          <p:cNvPr id="43" name="pole tekstowe 1"/>
          <p:cNvSpPr/>
          <p:nvPr/>
        </p:nvSpPr>
        <p:spPr>
          <a:xfrm>
            <a:off x="900000" y="2987640"/>
            <a:ext cx="741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Arial"/>
              </a:rPr>
              <a:t>Oferta najmu utwardzonego placu asfaltoweg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480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Przedmiotem oferty są utwardzone place asfaltowe zlokalizowane na terenie klubu sportowego Wisła Płock S.A. oraz wzdłuż ul. 7 Czerwca 1991 roku (teren przed kasami sprzedaż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ymiary placów asfaltowy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- 58 m x 54 m o łącznej powierzchni użytkowej 3 132 m</a:t>
            </a:r>
            <a:r>
              <a:rPr b="0" lang="pl-PL" sz="1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na terenie stadio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- 120 m x 20 m o łącznej powierzchni użytkowej 2 400 m</a:t>
            </a:r>
            <a:r>
              <a:rPr b="0" lang="pl-PL" sz="1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przed stadion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Plac asfaltowy na terenie stadionu jest oświetlony i wyposażony w przenośne przyłącza z zasilaniem elektrycznym, natomiast plac przed stadionem nie posiada bezpośredniego oświetlenia (oświetlony jest wyłącznie z przydrożnych lamp i lamp zainstalowanych na terenie stadion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 bezpośrednim otoczeniu placu asfaltowego są możliwe do wynajęcia powierzchnie magazyn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Nieruchomości objęte są całodobową ochroną fizyczną oraz systemem monitoringu wizyjn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"/>
          <p:cNvPicPr/>
          <p:nvPr/>
        </p:nvPicPr>
        <p:blipFill>
          <a:blip r:embed="rId6"/>
          <a:stretch/>
        </p:blipFill>
        <p:spPr>
          <a:xfrm>
            <a:off x="324000" y="0"/>
            <a:ext cx="82422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2422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ff"/>
                </a:solidFill>
                <a:uFillTx/>
                <a:latin typeface="Verdana"/>
              </a:rPr>
              <a:t>Widok placu asfaltowego położonego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pl-PL" sz="1800" spc="-1" strike="noStrike" u="sng">
                <a:solidFill>
                  <a:srgbClr val="ffffff"/>
                </a:solidFill>
                <a:uFillTx/>
                <a:latin typeface="Verdana"/>
              </a:rPr>
              <a:t> na terenie stadionu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DSC_1018"/>
          <p:cNvPicPr/>
          <p:nvPr/>
        </p:nvPicPr>
        <p:blipFill>
          <a:blip r:embed="rId2"/>
          <a:stretch/>
        </p:blipFill>
        <p:spPr>
          <a:xfrm>
            <a:off x="714240" y="1643040"/>
            <a:ext cx="741708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229600" cy="907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Verdana"/>
              </a:rPr>
              <a:t>Widok placu asfaltowego położonego wzdłuż ul. 7 Czerwca 1991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pl-PL" sz="1600" spc="-1" strike="noStrike" u="sng">
                <a:solidFill>
                  <a:srgbClr val="ffffff"/>
                </a:solidFill>
                <a:uFillTx/>
                <a:latin typeface="Verdana"/>
              </a:rPr>
              <a:t>r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571680" y="1714680"/>
            <a:ext cx="7416720" cy="34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W przypadku zainteresowania naszą ofertą z Państwa strony, proszę o konta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pl-PL" sz="1600" spc="-1" strike="noStrike" u="sng">
                <a:solidFill>
                  <a:srgbClr val="ffffff"/>
                </a:solidFill>
                <a:uFillTx/>
                <a:latin typeface="Verdana"/>
              </a:rPr>
              <a:t>Strusiński Radosł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tel: 24 367 65 46, 0 607 694 9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adres e-mail: </a:t>
            </a:r>
            <a:r>
              <a:rPr b="0" i="1" lang="pl-PL" sz="1600" spc="-1" strike="noStrike">
                <a:solidFill>
                  <a:srgbClr val="ffffff"/>
                </a:solidFill>
                <a:latin typeface="Verdana"/>
              </a:rPr>
              <a:t>radoslaw.strusinski@wisla.plock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73100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2422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09:51:22Z</dcterms:created>
  <dc:creator>Anika Miszczyńska</dc:creator>
  <dc:description/>
  <dc:language>en-US</dc:language>
  <cp:lastModifiedBy>user</cp:lastModifiedBy>
  <dcterms:modified xsi:type="dcterms:W3CDTF">2010-10-04T07:53:30Z</dcterms:modified>
  <cp:revision>40</cp:revision>
  <dc:subject/>
  <dc:title>Slajd 1</dc:title>
</cp:coreProperties>
</file>