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86E-803A-4646-9305-492E2A72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EEE-5B96-4DFA-91A6-54B9D8E3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EEF-DADA-4B4D-8207-64ED4794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314-1164-4409-9E2B-722E4636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E72-004F-4B56-A946-DE83152B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EAD-3A4B-4CA2-94BF-2BD6F8A5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181-BF0E-40B2-9F16-22B2250C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78D-7201-48C3-8BAD-3A020FAF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CC8-DBEC-43CE-A0BF-84A46BFE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6E1-C95D-403D-BA4D-E620128D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C53-24DA-41F9-BE5B-21E7397D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CFC-306C-4514-9ABC-D0AAEC84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5B9E-2918-4FF6-86B6-A2660E8E6EC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7731000" cy="218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242200" cy="1243080"/>
          </a:xfrm>
          <a:prstGeom prst="rect">
            <a:avLst/>
          </a:prstGeom>
          <a:ln w="0">
            <a:noFill/>
          </a:ln>
        </p:spPr>
      </p:pic>
      <p:sp>
        <p:nvSpPr>
          <p:cNvPr id="43" name="pole tekstowe 1"/>
          <p:cNvSpPr/>
          <p:nvPr/>
        </p:nvSpPr>
        <p:spPr>
          <a:xfrm>
            <a:off x="900000" y="2987640"/>
            <a:ext cx="741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Arial"/>
              </a:rPr>
              <a:t>Oferta najmu utwardzonego placu asfaltoweg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480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Przedmiotem oferty są utwardzone place asfaltowe zlokalizowane na terenie klubu sportowego Wisła Płock S.A. oraz wzdłuż ul. 7 Czerwca 1991 roku (teren przed kasami sprzedaż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ymiary placów asfaltowy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- 58 m x 54 m o łącznej powierzchni użytkowej 3 132 m</a:t>
            </a:r>
            <a:r>
              <a:rPr b="0" lang="pl-PL" sz="1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na terenie stadio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- 120 m x 20 m o łącznej powierzchni użytkowej 2 400 m</a:t>
            </a:r>
            <a:r>
              <a:rPr b="0" lang="pl-PL" sz="1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przed stadion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Plac asfaltowy na terenie stadionu jest oświetlony i wyposażony w przenośne przyłącza z zasilaniem elektrycznym, natomiast plac przed stadionem nie posiada bezpośredniego oświetlenia (oświetlony jest wyłącznie z przydrożnych lamp i lamp zainstalowanych na terenie stadion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 bezpośrednim otoczeniu placu asfaltowego są możliwe do wynajęcia powierzchnie magazyn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Nieruchomości objęte są całodobową ochroną fizyczną oraz systemem monitoringu wizyjn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"/>
          <p:cNvPicPr/>
          <p:nvPr/>
        </p:nvPicPr>
        <p:blipFill>
          <a:blip r:embed="rId6"/>
          <a:stretch/>
        </p:blipFill>
        <p:spPr>
          <a:xfrm>
            <a:off x="324000" y="0"/>
            <a:ext cx="82422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2422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Verdana"/>
              </a:rPr>
              <a:t>Widok placu asfaltowego położonego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Verdana"/>
              </a:rPr>
              <a:t> na terenie stadionu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DSC_1018"/>
          <p:cNvPicPr/>
          <p:nvPr/>
        </p:nvPicPr>
        <p:blipFill>
          <a:blip r:embed="rId2"/>
          <a:stretch/>
        </p:blipFill>
        <p:spPr>
          <a:xfrm>
            <a:off x="714240" y="1643040"/>
            <a:ext cx="741708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229600" cy="907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Verdana"/>
              </a:rPr>
              <a:t>Widok placu asfaltowego położonego wzdłuż ul. 7 Czerwca 1991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pl-PL" sz="1600" spc="-1" strike="noStrike" u="sng">
                <a:solidFill>
                  <a:srgbClr val="ffffff"/>
                </a:solidFill>
                <a:uFillTx/>
                <a:latin typeface="Verdana"/>
              </a:rPr>
              <a:t>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571680" y="1714680"/>
            <a:ext cx="7416720" cy="34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W przypadku zainteresowania naszą ofertą z Państwa strony, proszę o konta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pl-PL" sz="1600" spc="-1" strike="noStrike" u="sng">
                <a:solidFill>
                  <a:srgbClr val="ffffff"/>
                </a:solidFill>
                <a:uFillTx/>
                <a:latin typeface="Verdana"/>
              </a:rPr>
              <a:t>Strusiński Radosł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el: 24 367 65 46, 0 607 694 9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adres e-mail: </a:t>
            </a:r>
            <a:r>
              <a:rPr b="0" i="1" lang="pl-PL" sz="1600" spc="-1" strike="noStrike">
                <a:solidFill>
                  <a:srgbClr val="ffffff"/>
                </a:solidFill>
                <a:latin typeface="Verdana"/>
              </a:rPr>
              <a:t>radoslaw.strusinski@wisla.plock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73100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2422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09:51:22Z</dcterms:created>
  <dc:creator>Anika Miszczyńska</dc:creator>
  <dc:description/>
  <dc:language>en-US</dc:language>
  <cp:lastModifiedBy>user</cp:lastModifiedBy>
  <dcterms:modified xsi:type="dcterms:W3CDTF">2010-10-04T07:53:30Z</dcterms:modified>
  <cp:revision>40</cp:revision>
  <dc:subject/>
  <dc:title>Slajd 1</dc:title>
</cp:coreProperties>
</file>