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749-4F2B-4936-94C0-F4E55C11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72B-3121-4BE3-B856-E9A0FE0D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82D-8549-47B9-ABF0-05C135B3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095-1DDA-48C7-ACE2-EE43323B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B1A-0F10-46C9-8E94-0AF7F0E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119-0CDD-448F-9127-3EAC9690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B85-0DBA-465E-9D52-BF5DAFF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0B0-1C29-4C4B-9A6A-103E1CA3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5C0-0A69-4577-8A24-AFC5904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11C-D4F5-439D-B38D-2375DBE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CF1-B036-4D31-A1E5-826FB68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EB9-0A6B-410D-B574-4A5A456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78C-15B1-48B9-A644-D407EEAF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facebook.pl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32000" y="1479600"/>
            <a:ext cx="76327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djęcie współpracy barterowej z kilkunastoma podmiotam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ferującymi darmowe usługi w zamian za reklamę o wartości ponad 250 000 zł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378000" cy="250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900000" y="25304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32000" y="208440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ktywizacja strony internetowej (wzrost oglądalności o o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30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ciągu pół roku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4447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znaczny wzrost sprzedaży w sklepie w galerii handlowej Mazov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28526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32000" y="3178080"/>
            <a:ext cx="748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kcje integrujące zespół, wzmacniające związki zawodników z Klubem oraz lokalną społecznością  - nagranie kolędy, spotkania piłkarzy z młodzieżą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900000" y="3249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32000" y="3784680"/>
            <a:ext cx="74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zygotowanie obchodów jubileuszu Klubu (koncert kolęd, turniej piłki ulicznej, wydawnictwa jubileuszowe: kalendarz, sz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900000" y="3825720"/>
            <a:ext cx="378000" cy="25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900000" y="4473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436572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zostałe działania wizerunkowe i edukacyjne – nowa wizualizacja kawiarenki klubowej, utworzenie  zewnętrznej galerii zdjęć historycznych, zwiedzanie stadi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77488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wiązanie  współpracy z Komunikacją Miejską;</a:t>
            </a:r>
            <a:r>
              <a:rPr b="0" lang="en-US" sz="18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16225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wój konta społecznościowego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acebook.pl</a:t>
            </a: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becnie ok. 4800 fanów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00000" y="21700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32000" y="2097000"/>
            <a:ext cx="78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aktywny udział w wielu akcjach społecznościowych, m.in. Szlachetna Paczka, Wielka Orkiestra Świątecznej Pomocy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900000" y="296244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32000" y="2889360"/>
            <a:ext cx="78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kl spotkań piłkarzy z dziećmi i młodzieżą w płockich szkołach, gdzie propagują sport wśród potencjalnych adept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2565360"/>
            <a:ext cx="712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arianty funkcjonowania ja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Klubu profesjonal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48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2060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ystępy na najwyższym poziomie rozgrywkowym wiążą się z dużymi nakładami finansowymi, ale i największymi korzyściami natury promocyjnej i społecznej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 rot="2700000">
            <a:off x="808200" y="2512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92360" y="269892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łka nożna  jako najpopularniejsza dyscyplina sportu zapewnia właścicielowi satysfakcjonujący efekt promocyjny, a miastu które klub ekstraklasy reprezentuje ciągłą obecność w media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rot="2700000">
            <a:off x="808200" y="33757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92360" y="357336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iczba publikacji prasowych, radiowych , telewizyjnych oraz internetowych poświęconych rozgrywkom ekstraklasy jest większa niż wszystkich pozostałych dyscyplin sportowych łącznie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rot="2700000">
            <a:off x="808200" y="43837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92360" y="4581360"/>
            <a:ext cx="72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450864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ła obecność w telewizji - wszystkie mecze ekstraklasy są transmitowane „na żywo” prze stacje telewizyjne. W efekcie nakłady promocyjne poprzez piłkę nożną zwracają się z nawiązką</a:t>
            </a:r>
            <a:r>
              <a:rPr b="1" lang="en-US" sz="1800" spc="-1" strike="noStrike">
                <a:solidFill>
                  <a:srgbClr val="000000"/>
                </a:solidFill>
                <a:latin typeface="Italic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8 0.0706 -0.24201 0.16944 -0.22396 0.16805 C -0.19792 0.16805 -0.19601 -0.16273 -0.16493 -0.16389 C -0.13698 -0.16389 -0.15191 0.12523 -0.125 0.12407 C -0.09705 0.12407 -0.11198 -0.08542 -0.08195 -0.08542 C -0.05504 -0.08542 -0.06997 0.05602 -0.04601 0.05602 C -0.02292 0.05602 -0.0349 -0.05209 -0.01389 -0.05209 C -0.00191 -0.05209 -0.00104 -0.02269 8.33333E-007 3.33333E-006 E">
                                      <p:cBhvr>
                                        <p:cTn id="50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06064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pekt społeczny. Mecze ekstraklasy ściągają na stadiony zdecydowanie najliczniejszą publiczność. Przewidywania frekwencja na poziomie 5-6 tys. widz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 rot="2700000">
            <a:off x="808200" y="2461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92360" y="269568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większenie zainteresowania edukacją sportową wśród młodzieży, wzrost zainteresowania  grupami juniorskimi Wisły, Płocką Akademią Piłkarską oraz lepsze wykorzystanie Orlik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 rot="2700000">
            <a:off x="808200" y="3253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350028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Awans do ekstraklasy wpływa na wzrost budżetu, głównie dzięki umowom z telewizją CANAL + oraz z tytularnym sponsorem rozgrywek T-Mob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 rot="2700000">
            <a:off x="808200" y="397404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92360" y="4141800"/>
            <a:ext cx="72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zrost dochodów z umów reklamowych. Ze względu na dużą popularność ekstraklasy wpływy od ogólnopolskich i krajowych reklamodawców można oszacować na poziomie co najmniej miliona złotych rocznie (dochody Klubu sprzed kilku lat, kiedy regularnie występował w najwyższej lidz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206064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udżety klubów ekstraklasy kształtują się na poziomie od 10 mln  zł (ŁKS) do 80 mln  zł (Legi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 rot="2700000">
            <a:off x="808200" y="265500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692360" y="291132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 skutecznie włączyć się do walki o ekstraklasę niezbędne są środki na poziomie 6 mln zł netto z przeznaczeniem na funkcjonowanie I zespołu oraz ok. 1, 5 mln zł netto na pozostałą działalność klubu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 L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 rot="2700000">
            <a:off x="808200" y="1720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92360" y="198900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aplecze ekstraklasy nadal stanowi dobrą promocję właściciela klubu, ale relatywnie mniej efektywną niż ekstraklasa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2700000">
            <a:off x="808200" y="2296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2360" y="256536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niejsza frekwencja na meczach -  2- 4 tysięcy widzów (zależnie od aktualnej formy piłkarzy i wartości przeciwnika)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 rot="2700000">
            <a:off x="808200" y="289296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92360" y="3141720"/>
            <a:ext cx="745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iczba publikacji prasowych znacznie odbiega od poziomu ekstraklasy. Transmitowane są wybrane mecze oraz cotygodniowy magazyn w stacji Orange Sport, ponadto skróty spotkań pokazują internetowe telewizje klubowe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 rot="2700000">
            <a:off x="808200" y="3736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92360" y="3933720"/>
            <a:ext cx="745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dmienny model sponsoringu - współpraca reklamowa z kilkoma, a nawet kilkunastoma podmiotami (np. Olimpia Grudziądz ma kilkunastu niewielkich sponsorów, którzy wspólnie z miastem biorą na siebie ciężar utrzymania klubu). Model trudny do wdrożenia w Płoc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 rot="2700000">
            <a:off x="808200" y="467100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92360" y="4933800"/>
            <a:ext cx="74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ylko stała poprawa wyników na dłużej wiąże kibiców i potencjalnych sponsorów z klubem. Brak perspektyw poprawy lokaty w tabeli negatywnie wpły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 zainteresowanie meczami Wisły Pł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7 0.0706 -0.24201 0.16944 -0.22396 0.16805 C -0.19792 0.16805 -0.19601 -0.16273 -0.16493 -0.16389 C -0.13698 -0.16389 -0.15191 0.12523 -0.125 0.12407 C -0.09705 0.12407 -0.11198 -0.08542 -0.08194 -0.08542 C -0.05503 -0.08542 -0.06996 0.05602 -0.04601 0.05602 C -0.02292 0.05602 -0.03489 -0.05209 -0.01389 -0.05209 C -0.00191 -0.05209 -0.00104 -0.02269 -8.33333E-007 3.33333E-006 E">
                                      <p:cBhvr>
                                        <p:cTn id="58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 L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 rot="2700000">
            <a:off x="808200" y="1813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92360" y="21286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 stabilnego funkcjonowania w I lidze niezbędne są nakłady w wysokości 4 mln zł netto rocznie na I zespół oraz ok. 1, 5 mln zł na pozostałe obszary działalności spółki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 rot="2700000">
            <a:off x="808200" y="2677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92360" y="292104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westycje w przestarzały obiekt oraz systematyczny rozwój wymagają dodatkowych nakład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92360" y="1341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ginalizacja futbolu na poziomie profesjonalnym,  koncentracja na szkoleniu młodzie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 rot="2700000">
            <a:off x="808200" y="188496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92360" y="2122560"/>
            <a:ext cx="76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graniczenie działalności Klubu do utrzymaniu pierwszej drużyny na poziomie co najwyżej II ligi i koncentracji na kształceniu zdolnych piłkarzy z naciskiem na ich ewentualne transfery do innych klub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 rot="2700000">
            <a:off x="808200" y="2605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92360" y="290844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naczna redukcja zatrudnienia w Klubie, łącznie ze sztabem szkoleniowo - medyczn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 rot="2700000">
            <a:off x="807840" y="3089160"/>
            <a:ext cx="903240" cy="100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92360" y="334332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oszt funkcjonowania na poziomie II ligi, przy utrzymaniu obecnego stanu szkolenia młodzieży (9 grup), bez inwestycji w obiekt wyniósłby ok. 3 mln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 rot="2700000">
            <a:off x="808200" y="3685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92360" y="5327640"/>
            <a:ext cx="763272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oza oszczędnościami finansowymi wariant nie przyniesie mias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żadnych korzy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 rot="2700000">
            <a:off x="808200" y="4261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92360" y="40021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nikoma wartość promocyjna klubu, dla środków masowego przekazu istotne są jedynie wyniki sportowców na poziomie profesjonalnym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 rot="2700000">
            <a:off x="808200" y="5053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692360" y="4554360"/>
            <a:ext cx="7632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ak wzorców w osobach profesjonalnych sportowców zniechęci do uprawiania piłki nożnej na poziomie młodzieżowym. Utrata przez młodych sportowc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tywacji do treningu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7 0.0706 -0.24201 0.16944 -0.22396 0.16805 C -0.19792 0.16805 -0.19601 -0.16273 -0.16493 -0.16389 C -0.13698 -0.16389 -0.15191 0.12523 -0.125 0.12407 C -0.09705 0.12407 -0.11198 -0.08542 -0.08194 -0.08542 C -0.05503 -0.08542 -0.06996 0.05602 -0.04601 0.05602 C -0.02292 0.05602 -0.03489 -0.05209 -0.01389 -0.05209 C -0.00191 -0.05209 -0.00104 -0.02269 -8.33333E-007 3.33333E-006 E">
                                      <p:cBhvr>
                                        <p:cTn id="65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0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1989000"/>
            <a:ext cx="763272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Wisła Płock. Tradycja i przyszł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łock, 15 maja 201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ubiegłych środków finansowych, efektywne działania marketingowe przyniosły wymierne korzyści wizerun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 rot="1500000">
            <a:off x="178920" y="220500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692360" y="2565360"/>
            <a:ext cx="7343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16. miejsce w rankingu wykorzystania Internetu przez polskie kluby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(ex aequo z Cracovią, przed takimi drużynami jak: ŁKS Łódź, Zagłębie Lubin, Zawisza, GKS Katowice) według rankingu publikowany LEWIS P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 rot="1500000">
            <a:off x="169560" y="324324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692360" y="3581280"/>
            <a:ext cx="73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naczny wzrost medialności – według badania w 2011 r., wykonanego przez specjalizującą się w monitoringu mediów agencję Press-Service pt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Polska Piłka.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a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imo, że w pierwszym półroczu grała w II lidze uplasowała się na jednym z czołowych miejsc ranking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 rot="1500000">
            <a:off x="169560" y="450864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692360" y="4941720"/>
            <a:ext cx="7343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a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st drugą po PKN ORLEN marką kojarzoną z Płocki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d względem obecności w mediach o zasięgu ogólnopolsk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 rot="1500000">
            <a:off x="178920" y="1801800"/>
            <a:ext cx="1522440" cy="1698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 rot="1500000">
            <a:off x="107640" y="425124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268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sła Płock w mediach – 2011  rok (według badania z lutego 201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63640" y="213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ajbardziej medialny klub I Ligi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45655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 300 000 zł – ekwiwalent reklam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 rot="1500000">
            <a:off x="178920" y="295416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763640" y="32814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8 400 publika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86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684360" y="141588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476360" y="1341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elem  obecnego zarządu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y Płock S.A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st systematyczny rozwój Klubu i odbudowa silnej, znanej w całym kraju marki, czyli ponowne występy w ekstraklasie, wprowadzenie do reprezentacji Polski zawodników Wisły, a co za tym idzie dawanie społeczeństwu Płocka radości z kibicowania Klubowi oraz satysfakcji właścicielowi i spons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84360" y="292428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76360" y="299736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ychowywanie w duchu sportowej rywalizacji młodzieży Płocka i oko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84360" y="379260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76360" y="3711600"/>
            <a:ext cx="71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lszy jednak rozwój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y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czy choćby utrzymanie obecnego poziomu uzależniony jest od zagwarantowania stabilności finansowej Klubu na okres minimum kilku lat oraz rozpoczęcie prac nad poprawą przestarzałej infrastruktury obi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6000"/>
                            </p:stCondLst>
                            <p:childTnLst>
                              <p:par>
                                <p:cTn id="8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-4573440" y="-3451320"/>
            <a:ext cx="18292680" cy="13720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4581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0" dur="1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7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0"/>
                            </p:stCondLst>
                            <p:childTnLst>
                              <p:par>
                                <p:cTn id="8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1332000" y="146520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-1332000" y="198900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1332000" y="270828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332000" y="328464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-1328760" y="3860640"/>
            <a:ext cx="571680" cy="37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155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5 lat tradycji Wisły Pł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213372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ktualna sytuacja Klubu - 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70828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ianty funkcjonowania jako Klubu profesjonal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284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rzyści wizerunkowe dla Płoc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8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dsum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574 L 0.06701 -0.0375 C 0.08108 -0.04953 0.10208 -0.05625 0.12396 -0.05625 C 0.14896 -0.05625 0.16892 -0.04953 0.18299 -0.0375 L 0.25 0.01574 E">
                                      <p:cBhvr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574 L 0.06701 -0.0375 C 0.08108 -0.04954 0.10208 -0.05625 0.12396 -0.05625 C 0.14896 -0.05625 0.16892 -0.04954 0.18299 -0.0375 L 0.25 0.01574 E">
                                      <p:cBhvr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0.06701 -0.05324 C 0.08108 -0.06528 0.10208 -0.07199 0.12396 -0.07199 C 0.14896 -0.07199 0.16892 -0.06528 0.18299 -0.05324 L 0.25 5.55112E-017 E">
                                      <p:cBhvr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48148E-006 L 0.0691 -0.05324 C 0.08316 -0.06528 0.10417 -0.07199 0.12604 -0.07199 C 0.15104 -0.07199 0.17101 -0.06528 0.18507 -0.05324 L 0.25208 -1.48148E-006 E">
                                      <p:cBhvr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8 7.40741E-007 L 0.071 -0.0544 C 0.08507 -0.06667 0.10573 -0.07338 0.12725 -0.07338 C 0.15173 -0.07338 0.17153 -0.06667 0.18541 -0.0544 L 0.25173 7.40741E-007 E">
                                      <p:cBhvr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3640" y="283860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3080" y="26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12536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947 – powstaje klub Elektryczność Płock, którego spadkobiercą j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zisiejsza Wisł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1280" y="19540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882800"/>
            <a:ext cx="7632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1980 – historyczny awans do II ligi. Zespół złożony niemal w komple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z wychowanków, prowadzony przez płoccz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Tadeusza Prosowski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935440"/>
            <a:ext cx="7632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994 – Pierwszy awans do ekstraklasy. Decydujący bezpośredn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awansie mecz z Szombierkami Bytom oglądało 17 tys. widz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ener Grzegorz Wener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11280" y="407664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014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3 – Finał Pucharu Polski i awans do rozgrywek Pucharu UEF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1640" y="4437000"/>
            <a:ext cx="763272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4 – Uroczyste nadanie stadionowi imienia Kazimierza Górskiego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cz Polska – USA. V miejsce w ekstraklas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kordowa frekwencja – komplet widzów na mecz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 Legią Warszawa i Wisłą Kraków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3080" y="26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112536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5 – 4. miejsce, do dzisiaj najwyższe w dziejach klub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 ekstraklasie i ponowny start na arenie europejskiej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11280" y="19540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188280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2006 – zdobycie Pucharu Polski i Superpucharu Polski. Trzeci 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w Pucharze UEF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263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11 – ponowny powrót do I ligi po rocznej degradacji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11280" y="31068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3068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 sezonów, 270 meczów w ekstraklasie. 28 miejsce w tabeli wszechczas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3500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Kilkudziesięciu byłych reprezentantów Polski. Aktualnie w kadrze są Marcin Wasilewski, Ireneusz Jeleń, Adrian Mierzejewski i Sławomir Peszko.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11280" y="433080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22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Wielu znakomitych trenerów, między innymi: Jacek Gmoch, Hubert Kostka, Mirosław Jabłoński, Josef Csaplar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856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wans do I Lig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500000">
            <a:off x="178920" y="213372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poprzednich środków finansowych, jakimi dysponował Klub w ostatnim roku, osiągnięte zostały dwa kluczowe c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1500000">
            <a:off x="107640" y="350028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3640" y="3925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prawa wizerunki Klub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poprzednich środków finansowych, Klub w ciągu kilku miesięcy przeprowadził wiele efektywnych działań marketingowych m.in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2000" y="2276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dzyskanie partnerów - patronów medialnych (prasa, stacje radiowe, Interne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378000" cy="25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900000" y="292428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2000" y="2565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znowienie po wielu latach magazynu radiowego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8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aktywacja magazynu w telewizji lokalnej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32000" y="314172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znowienie radiowych relacji liv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900000" y="35002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32000" y="342900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yjazdowe relacje SMS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900000" y="3789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32000" y="37162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lewizja klubowa Wisła Płock TV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900000" y="40766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2000" y="4005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drożenie usługi Wisła Płock Mobile;</a:t>
            </a:r>
            <a:r>
              <a:rPr b="0" lang="en-US" sz="18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900000" y="4365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32000" y="4286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ruchomienie projektu „Stara Wiara” dedykowanego dawnym zawodnikom i działacz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900000" y="490680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4862520"/>
            <a:ext cx="76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akcje billboardowe (bezkosztowo)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157720"/>
            <a:ext cx="76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prowadzenie Karty Kibica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900000" y="5194440"/>
            <a:ext cx="378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5:01:11Z</dcterms:created>
  <dc:creator>Bożena Cichocka</dc:creator>
  <dc:description/>
  <dc:language>en-US</dc:language>
  <cp:lastModifiedBy>Bożena Cichocka</cp:lastModifiedBy>
  <dcterms:modified xsi:type="dcterms:W3CDTF">2012-05-15T08:21:20Z</dcterms:modified>
  <cp:revision>9</cp:revision>
  <dc:subject/>
  <dc:title>Slajd 1</dc:title>
</cp:coreProperties>
</file>